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1.jpeg" ContentType="image/jpeg"/>
  <Override PartName="/ppt/media/image29.png" ContentType="image/png"/>
  <Override PartName="/ppt/media/image18.jpeg" ContentType="image/jpeg"/>
  <Override PartName="/ppt/media/image17.jpeg" ContentType="image/jpeg"/>
  <Override PartName="/ppt/media/image16.wmf" ContentType="image/x-wmf"/>
  <Override PartName="/ppt/media/image27.jpeg" ContentType="image/jpeg"/>
  <Override PartName="/ppt/media/image13.wmf" ContentType="image/x-wmf"/>
  <Override PartName="/ppt/media/image10.png" ContentType="image/png"/>
  <Override PartName="/ppt/media/image1.jpeg" ContentType="image/jpeg"/>
  <Override PartName="/ppt/media/image28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8.jpeg" ContentType="image/jpeg"/>
  <Override PartName="/ppt/media/image41.wmf" ContentType="image/x-wmf"/>
  <Override PartName="/ppt/media/image38.png" ContentType="image/png"/>
  <Override PartName="/ppt/media/image33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image34.png" ContentType="image/png"/>
  <Override PartName="/ppt/media/image4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1.png" ContentType="image/png"/>
  <Override PartName="/ppt/media/image19.jpeg" ContentType="image/jpeg"/>
  <Override PartName="/ppt/media/image32.gif" ContentType="image/gif"/>
  <Override PartName="/ppt/media/image5.jpeg" ContentType="image/jpeg"/>
  <Override PartName="/ppt/media/image20.wmf" ContentType="image/x-wmf"/>
  <Override PartName="/ppt/media/image26.jpeg" ContentType="image/jpeg"/>
  <Override PartName="/ppt/media/image36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0CB7-7737-4440-B692-28DBC06FB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1FB3-835A-4AA5-92D6-13F25042B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90A1-9AC0-40DC-9831-1C1A10BCF1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3412-DE65-47C8-BA46-CE464054C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6D5D-B2E4-4105-8053-E5B543E31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541C-14B7-459A-B531-BCECDF32E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28AD-88D4-4C39-9706-53D2A27C3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D857-9C95-44CF-96C4-144DF1B1D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5B35-5EAF-4115-BE91-FD933EAA7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7257-46D4-4B8D-865D-1DA21BA65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6736-20B0-44F6-B61D-18B33EC0D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CBDE-BE4C-4CFE-8381-261B805BB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CE3B-B6DE-48E2-92B2-10A09B3ED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BC1F-6CD3-46B5-A85D-4AAF3B758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4D9A-B10F-4B47-9190-DC46A7EE8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6F83-7EBA-4286-82CD-602A5B078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38F1-9E0D-4CA8-A100-C9D40564F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5E02-DD26-4CF3-9F27-31E915B50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67AC-6227-4A61-B64E-E3C77C071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8478-F53E-490E-A6F8-EB26A6921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3020-FE27-4825-9FC9-0BDC1CD00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DCAA-1D87-4688-8302-DDE6259C2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932-5EDC-4ABD-BE6E-84408BE1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3B7-DD01-49BA-9373-70A31218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5A2-0A7A-4BCE-8880-6D1029CE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24F-078D-4114-9F09-B873B711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5CF-EF74-4F71-97E3-AC06AE77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2661-B280-4B29-90C4-E75594AF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711-980D-4D45-BE3E-2BB6F5D0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273-A506-4D0A-B269-1864F9BF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1C6-9108-4311-A091-D28406AC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9B8-FA12-4A8E-8B40-F96CDF21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9CF-A367-4428-AC34-81F2E5AF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1FB-F455-48D0-8091-FD09A100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2CE8-BF82-46CB-B685-BF012B7F4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21classes.com/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ikispaces.com/site/for/teachers" TargetMode="External"/><Relationship Id="rId2" Type="http://schemas.openxmlformats.org/officeDocument/2006/relationships/hyperlink" Target="http://pbwiki.com/academic.wiki" TargetMode="External"/><Relationship Id="rId3" Type="http://schemas.openxmlformats.org/officeDocument/2006/relationships/image" Target="../media/image32.gif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ntentkeepe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lancing Safety and Access:  Moving Beyond the Acceptable Use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Bill John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Virginia Beach City Public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William.johnsen@vbschool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wjohnsen\Local Settings\Temporary Internet Files\Content.IE5\CVLYPE92\MPj04092680000[1].jpg"/>
          <p:cNvPicPr/>
          <p:nvPr/>
        </p:nvPicPr>
        <p:blipFill>
          <a:blip r:embed="rId1"/>
          <a:stretch/>
        </p:blipFill>
        <p:spPr>
          <a:xfrm>
            <a:off x="380880" y="2286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wjohnsen\Local Settings\Temporary Internet Files\Content.IE5\CVLYPE92\MPj04092680000[1].jpg"/>
          <p:cNvPicPr/>
          <p:nvPr/>
        </p:nvPicPr>
        <p:blipFill>
          <a:blip r:embed="rId2"/>
          <a:stretch/>
        </p:blipFill>
        <p:spPr>
          <a:xfrm>
            <a:off x="990720" y="533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wjohnsen\Local Settings\Temporary Internet Files\Content.IE5\CVLYPE92\MPj04092680000[1].jpg"/>
          <p:cNvPicPr/>
          <p:nvPr/>
        </p:nvPicPr>
        <p:blipFill>
          <a:blip r:embed="rId3"/>
          <a:stretch/>
        </p:blipFill>
        <p:spPr>
          <a:xfrm>
            <a:off x="1447920" y="8380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ltering Responsibility in A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FilteringReview.jpg"/>
          <p:cNvPicPr/>
          <p:nvPr/>
        </p:nvPicPr>
        <p:blipFill>
          <a:blip r:embed="rId1"/>
          <a:stretch/>
        </p:blipFill>
        <p:spPr>
          <a:xfrm>
            <a:off x="0" y="1905120"/>
            <a:ext cx="95220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AUP.jpg"/>
          <p:cNvPicPr/>
          <p:nvPr/>
        </p:nvPicPr>
        <p:blipFill>
          <a:blip r:embed="rId1"/>
          <a:stretch/>
        </p:blipFill>
        <p:spPr>
          <a:xfrm>
            <a:off x="457200" y="985680"/>
            <a:ext cx="83311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mages and Image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it Google Images in a forced Strict SafeSearch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ent Keeper will filter most inappropriate im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ther image search engines bloc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Documents and Settings\wjohnsen\Local Settings\Temporary Internet Files\Content.IE5\88KWSMAI\MCj04400360000[1].wmf"/>
          <p:cNvPicPr/>
          <p:nvPr/>
        </p:nvPicPr>
        <p:blipFill>
          <a:blip r:embed="rId1"/>
          <a:stretch/>
        </p:blipFill>
        <p:spPr>
          <a:xfrm>
            <a:off x="7391520" y="4648320"/>
            <a:ext cx="129204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Documents and Settings\wjohnsen\Local Settings\Temporary Internet Files\Content.IE5\BH1LE94L\MCj03979210000[1].wmf"/>
          <p:cNvPicPr/>
          <p:nvPr/>
        </p:nvPicPr>
        <p:blipFill>
          <a:blip r:embed="rId2"/>
          <a:stretch/>
        </p:blipFill>
        <p:spPr>
          <a:xfrm>
            <a:off x="914400" y="5181480"/>
            <a:ext cx="11113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wjohnsen\Local Settings\Temporary Internet Files\Content.IE5\88KWSMAI\MCj02311370000[1].wmf"/>
          <p:cNvPicPr/>
          <p:nvPr/>
        </p:nvPicPr>
        <p:blipFill>
          <a:blip r:embed="rId3"/>
          <a:stretch/>
        </p:blipFill>
        <p:spPr>
          <a:xfrm>
            <a:off x="3429000" y="4724280"/>
            <a:ext cx="19098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ogle Image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Google Images.jpg"/>
          <p:cNvPicPr/>
          <p:nvPr/>
        </p:nvPicPr>
        <p:blipFill>
          <a:blip r:embed="rId1"/>
          <a:stretch/>
        </p:blipFill>
        <p:spPr>
          <a:xfrm>
            <a:off x="3657600" y="1752480"/>
            <a:ext cx="4869000" cy="3048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Google Images2.jpg"/>
          <p:cNvPicPr/>
          <p:nvPr/>
        </p:nvPicPr>
        <p:blipFill>
          <a:blip r:embed="rId2"/>
          <a:stretch/>
        </p:blipFill>
        <p:spPr>
          <a:xfrm rot="970200">
            <a:off x="320400" y="3017880"/>
            <a:ext cx="77724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2133720"/>
            <a:ext cx="8458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flickr site is bloc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urls permitted through Content Kee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brary of Con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flickr.com/photos/library_of_con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298440" y="-49320"/>
            <a:ext cx="865044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 rot="210600">
            <a:off x="3390480" y="5095440"/>
            <a:ext cx="4686480" cy="1362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OCStudent.jpg"/>
          <p:cNvPicPr/>
          <p:nvPr/>
        </p:nvPicPr>
        <p:blipFill>
          <a:blip r:embed="rId1"/>
          <a:stretch/>
        </p:blipFill>
        <p:spPr>
          <a:xfrm>
            <a:off x="-46080" y="1219320"/>
            <a:ext cx="9190080" cy="3962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flick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FlickrBlockStudent.jpg"/>
          <p:cNvPicPr/>
          <p:nvPr/>
        </p:nvPicPr>
        <p:blipFill>
          <a:blip r:embed="rId2"/>
          <a:stretch/>
        </p:blipFill>
        <p:spPr>
          <a:xfrm>
            <a:off x="533520" y="2133720"/>
            <a:ext cx="83055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bout Blogg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 provided blogging site through Edublogs for 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ff post with moderated student 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ing permitting students to be added as “users” to a class or teacher blog 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21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, secure environment for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aged by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Point/MOSS2007 in 2009-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:\Program Files\Microsoft Office\MEDIA\CAGCAT10\j0292020.wmf"/>
          <p:cNvPicPr/>
          <p:nvPr/>
        </p:nvPicPr>
        <p:blipFill>
          <a:blip r:embed="rId2"/>
          <a:stretch/>
        </p:blipFill>
        <p:spPr>
          <a:xfrm>
            <a:off x="7091280" y="4952880"/>
            <a:ext cx="17877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bout Wik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mit sites such a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ikispac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BWik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Wet Paint for use by staff and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s are “private” for use with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manage access for 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Point/MOSS2007 in 2009-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Program Files\Microsoft Office\MEDIA\CAGCAT10\j0300520.gif"/>
          <p:cNvPicPr/>
          <p:nvPr/>
        </p:nvPicPr>
        <p:blipFill>
          <a:blip r:embed="rId3"/>
          <a:stretch/>
        </p:blipFill>
        <p:spPr>
          <a:xfrm>
            <a:off x="1295280" y="5105520"/>
            <a:ext cx="1371600" cy="117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Documents and Settings\wjohnsen\Local Settings\Temporary Internet Files\Content.IE5\CVLYPE92\MPj04092680000[1].jpg"/>
          <p:cNvPicPr/>
          <p:nvPr/>
        </p:nvPicPr>
        <p:blipFill>
          <a:blip r:embed="rId4"/>
          <a:stretch/>
        </p:blipFill>
        <p:spPr>
          <a:xfrm>
            <a:off x="5181480" y="4495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ideo Conferencing Any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.323 capability in distance learning l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H.323 units for check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ktop video conferen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ows Live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ndows Live Messe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1206360" y="4138560"/>
            <a:ext cx="7431120" cy="2365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Documents and Settings\wjohnsen\Local Settings\Temporary Internet Files\Content.IE5\88KWSMAI\MCj03577670000[1].wmf"/>
          <p:cNvPicPr/>
          <p:nvPr/>
        </p:nvPicPr>
        <p:blipFill>
          <a:blip r:embed="rId2"/>
          <a:stretch/>
        </p:blipFill>
        <p:spPr>
          <a:xfrm>
            <a:off x="6705720" y="2516040"/>
            <a:ext cx="12920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cial Networking, Reall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/My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Fl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ter out inappropriate “flak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ici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2438280" cy="69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 rot="510600">
            <a:off x="5790960" y="1981080"/>
            <a:ext cx="2781360" cy="140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838160" cy="67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4"/>
          <a:stretch/>
        </p:blipFill>
        <p:spPr>
          <a:xfrm>
            <a:off x="3733920" y="5257800"/>
            <a:ext cx="1933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3" descr=""/>
          <p:cNvPicPr/>
          <p:nvPr/>
        </p:nvPicPr>
        <p:blipFill>
          <a:blip r:embed="rId1"/>
          <a:stretch/>
        </p:blipFill>
        <p:spPr>
          <a:xfrm>
            <a:off x="-360360" y="158760"/>
            <a:ext cx="964404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wjohnsen\Local Settings\Temporary Internet Files\Content.IE5\CVLYPE92\MPj04092680000[1].jpg"/>
          <p:cNvPicPr/>
          <p:nvPr/>
        </p:nvPicPr>
        <p:blipFill>
          <a:blip r:embed="rId2"/>
          <a:stretch/>
        </p:blipFill>
        <p:spPr>
          <a:xfrm>
            <a:off x="838080" y="685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wjohnsen\Local Settings\Temporary Internet Files\Content.IE5\CVLYPE92\MPj04092680000[1].jpg"/>
          <p:cNvPicPr/>
          <p:nvPr/>
        </p:nvPicPr>
        <p:blipFill>
          <a:blip r:embed="rId3"/>
          <a:stretch/>
        </p:blipFill>
        <p:spPr>
          <a:xfrm>
            <a:off x="6553080" y="42670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What About Student Ema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entury Sk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 to many web 2.0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 with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g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ggle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oft Exchange La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Apps for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Documents and Settings\wjohnsen\Local Settings\Temporary Internet Files\Content.IE5\BH1LE94L\MPj04330780000[1].jpg"/>
          <p:cNvPicPr/>
          <p:nvPr/>
        </p:nvPicPr>
        <p:blipFill>
          <a:blip r:embed="rId1"/>
          <a:stretch/>
        </p:blipFill>
        <p:spPr>
          <a:xfrm>
            <a:off x="6705720" y="1600200"/>
            <a:ext cx="2030400" cy="134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Documents and Settings\wjohnsen\Local Settings\Temporary Internet Files\Content.IE5\88KWSMAI\MCj03477090000[1].wmf"/>
          <p:cNvPicPr/>
          <p:nvPr/>
        </p:nvPicPr>
        <p:blipFill>
          <a:blip r:embed="rId2"/>
          <a:stretch/>
        </p:blipFill>
        <p:spPr>
          <a:xfrm>
            <a:off x="6172200" y="4572000"/>
            <a:ext cx="181944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lancing Safety and Access:  Moving Beyond the Acceptable Use Poli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Bill John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Virginia Beach City Public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William.johnsen@vbschool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C:\Documents and Settings\wjohnsen\Local Settings\Temporary Internet Files\Content.IE5\CVLYPE92\MPj04092680000[1].jpg"/>
          <p:cNvPicPr/>
          <p:nvPr/>
        </p:nvPicPr>
        <p:blipFill>
          <a:blip r:embed="rId1"/>
          <a:stretch/>
        </p:blipFill>
        <p:spPr>
          <a:xfrm>
            <a:off x="380880" y="22860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wjohnsen\Local Settings\Temporary Internet Files\Content.IE5\CVLYPE92\MPj04092680000[1].jpg"/>
          <p:cNvPicPr/>
          <p:nvPr/>
        </p:nvPicPr>
        <p:blipFill>
          <a:blip r:embed="rId2"/>
          <a:stretch/>
        </p:blipFill>
        <p:spPr>
          <a:xfrm>
            <a:off x="990720" y="533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:\Documents and Settings\wjohnsen\Local Settings\Temporary Internet Files\Content.IE5\CVLYPE92\MPj04092680000[1].jpg"/>
          <p:cNvPicPr/>
          <p:nvPr/>
        </p:nvPicPr>
        <p:blipFill>
          <a:blip r:embed="rId3"/>
          <a:stretch/>
        </p:blipFill>
        <p:spPr>
          <a:xfrm>
            <a:off x="1447920" y="8380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wjohnsen\Local Settings\Temporary Internet Files\Content.IE5\88KWSMAI\MPj04332230000[1].jpg"/>
          <p:cNvPicPr/>
          <p:nvPr/>
        </p:nvPicPr>
        <p:blipFill>
          <a:blip r:embed="rId1"/>
          <a:stretch/>
        </p:blipFill>
        <p:spPr>
          <a:xfrm>
            <a:off x="3048120" y="685800"/>
            <a:ext cx="5894280" cy="589428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3" descr=""/>
          <p:cNvPicPr/>
          <p:nvPr/>
        </p:nvPicPr>
        <p:blipFill>
          <a:blip r:embed="rId2"/>
          <a:stretch/>
        </p:blipFill>
        <p:spPr>
          <a:xfrm>
            <a:off x="30240" y="-274680"/>
            <a:ext cx="5121360" cy="3494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Documents and Settings\wjohnsen\Local Settings\Temporary Internet Files\Content.IE5\CVLYPE92\MCj04325380000[1].png"/>
          <p:cNvPicPr/>
          <p:nvPr/>
        </p:nvPicPr>
        <p:blipFill>
          <a:blip r:embed="rId3"/>
          <a:stretch/>
        </p:blipFill>
        <p:spPr>
          <a:xfrm>
            <a:off x="3657600" y="1244520"/>
            <a:ext cx="4572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Do You Do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C:\Documents and Settings\wjohnsen\Local Settings\Temporary Internet Files\Content.IE5\CVLYPE92\MPj04092680000[1].jpg"/>
          <p:cNvPicPr/>
          <p:nvPr/>
        </p:nvPicPr>
        <p:blipFill>
          <a:blip r:embed="rId1"/>
          <a:stretch/>
        </p:blipFill>
        <p:spPr>
          <a:xfrm>
            <a:off x="2438280" y="1752480"/>
            <a:ext cx="4496040" cy="449604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5" descr=""/>
          <p:cNvPicPr/>
          <p:nvPr/>
        </p:nvPicPr>
        <p:blipFill>
          <a:blip r:embed="rId2"/>
          <a:stretch/>
        </p:blipFill>
        <p:spPr>
          <a:xfrm>
            <a:off x="133200" y="1305000"/>
            <a:ext cx="4189680" cy="375444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6" descr=""/>
          <p:cNvPicPr/>
          <p:nvPr/>
        </p:nvPicPr>
        <p:blipFill>
          <a:blip r:embed="rId3"/>
          <a:stretch/>
        </p:blipFill>
        <p:spPr>
          <a:xfrm>
            <a:off x="4370400" y="1231920"/>
            <a:ext cx="4913280" cy="362124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7" descr=""/>
          <p:cNvPicPr/>
          <p:nvPr/>
        </p:nvPicPr>
        <p:blipFill>
          <a:blip r:embed="rId4"/>
          <a:stretch/>
        </p:blipFill>
        <p:spPr>
          <a:xfrm>
            <a:off x="2511360" y="4413240"/>
            <a:ext cx="442584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tering in VB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ntent Kee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ed 2 years a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ly too restrictive for instructional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changes to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ted Help Desk staff to block/unblock with audit done by Computer Security Specia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ed profiles for students and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tering in VB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ing Pro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ructional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Instructional Sta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ests and Volunte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(7 differ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tri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C:\Documents and Settings\wjohnsen\Local Settings\Temporary Internet Files\Content.IE5\BH1LE94L\MCj03201680000[1].wmf"/>
          <p:cNvPicPr/>
          <p:nvPr/>
        </p:nvPicPr>
        <p:blipFill>
          <a:blip r:embed="rId1"/>
          <a:stretch/>
        </p:blipFill>
        <p:spPr>
          <a:xfrm>
            <a:off x="6781680" y="4648320"/>
            <a:ext cx="182592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Documents and Settings\wjohnsen\Local Settings\Temporary Internet Files\Content.IE5\S2HBAVTP\MCj03488850000[1].wmf"/>
          <p:cNvPicPr/>
          <p:nvPr/>
        </p:nvPicPr>
        <p:blipFill>
          <a:blip r:embed="rId2"/>
          <a:stretch/>
        </p:blipFill>
        <p:spPr>
          <a:xfrm>
            <a:off x="4952880" y="3886200"/>
            <a:ext cx="1843200" cy="1235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wjohnsen\Local Settings\Temporary Internet Files\Content.IE5\CVLYPE92\MCj03254100000[1].wmf"/>
          <p:cNvPicPr/>
          <p:nvPr/>
        </p:nvPicPr>
        <p:blipFill>
          <a:blip r:embed="rId3"/>
          <a:stretch/>
        </p:blipFill>
        <p:spPr>
          <a:xfrm>
            <a:off x="6400800" y="1828800"/>
            <a:ext cx="18144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tering in VB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by cat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30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6 and 10 are bloc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b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ing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c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ger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wjohnsen\Local Settings\Temporary Internet Files\Content.IE5\BH1LE94L\MCIN00673_0000[1].wmf"/>
          <p:cNvPicPr/>
          <p:nvPr/>
        </p:nvPicPr>
        <p:blipFill>
          <a:blip r:embed="rId1"/>
          <a:stretch/>
        </p:blipFill>
        <p:spPr>
          <a:xfrm>
            <a:off x="6324480" y="1981080"/>
            <a:ext cx="1433520" cy="163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Documents and Settings\wjohnsen\Local Settings\Temporary Internet Files\Content.IE5\CVLYPE92\MCIN00602_0000[1].wmf"/>
          <p:cNvPicPr/>
          <p:nvPr/>
        </p:nvPicPr>
        <p:blipFill>
          <a:blip r:embed="rId2"/>
          <a:stretch/>
        </p:blipFill>
        <p:spPr>
          <a:xfrm>
            <a:off x="4876920" y="4572000"/>
            <a:ext cx="17222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ltering in VBC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b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t ro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ing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ol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ci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ger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wjohnsen\Local Settings\Temporary Internet Files\Content.IE5\88KWSMAI\MPj04225360000[1].jpg"/>
          <p:cNvPicPr/>
          <p:nvPr/>
        </p:nvPicPr>
        <p:blipFill>
          <a:blip r:embed="rId1"/>
          <a:stretch/>
        </p:blipFill>
        <p:spPr>
          <a:xfrm>
            <a:off x="5562720" y="1905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wjohnsen\Local Settings\Temporary Internet Files\Content.IE5\CVLYPE92\MPj04386840000[1].jpg"/>
          <p:cNvPicPr/>
          <p:nvPr/>
        </p:nvPicPr>
        <p:blipFill>
          <a:blip r:embed="rId2"/>
          <a:stretch/>
        </p:blipFill>
        <p:spPr>
          <a:xfrm>
            <a:off x="6629400" y="2743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C:\Documents and Settings\wjohnsen\Local Settings\Temporary Internet Files\Content.IE5\BH1LE94L\MPj04330780000[1].jpg"/>
          <p:cNvPicPr/>
          <p:nvPr/>
        </p:nvPicPr>
        <p:blipFill>
          <a:blip r:embed="rId3"/>
          <a:stretch/>
        </p:blipFill>
        <p:spPr>
          <a:xfrm>
            <a:off x="4572000" y="4419720"/>
            <a:ext cx="213372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nblock/Block Site Requ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staff can request through Help De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 Desk staff can unblock/block with review by Computer Security Specia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 referred to Computer Security Specia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lt with Department of Curriculum and Instruction as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6324480" y="4876920"/>
            <a:ext cx="186876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7:42:54Z</dcterms:created>
  <dc:creator>wjohnsen</dc:creator>
  <dc:description/>
  <dc:language>en-US</dc:language>
  <cp:lastModifiedBy>wjohnsen</cp:lastModifiedBy>
  <dcterms:modified xsi:type="dcterms:W3CDTF">2009-02-19T23:55:04Z</dcterms:modified>
  <cp:revision>39</cp:revision>
  <dc:subject/>
  <dc:title>Balancing Safety and Access:  Moving Beyond the Acceptable Use Policy</dc:title>
</cp:coreProperties>
</file>